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9.wmf" ContentType="image/x-wmf"/>
  <Override PartName="/ppt/media/image39.png" ContentType="image/png"/>
  <Override PartName="/ppt/media/image41.wmf" ContentType="image/x-wmf"/>
  <Override PartName="/ppt/media/image42.png" ContentType="image/png"/>
  <Override PartName="/ppt/media/image31.wmf" ContentType="image/x-wmf"/>
  <Override PartName="/ppt/media/image11.png" ContentType="image/png"/>
  <Override PartName="/ppt/media/image2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0.wmf" ContentType="image/x-wmf"/>
  <Override PartName="/ppt/media/image46.wmf" ContentType="image/x-wmf"/>
  <Override PartName="/ppt/media/image48.jpeg" ContentType="image/jpeg"/>
  <Override PartName="/ppt/media/image38.wmf" ContentType="image/x-wmf"/>
  <Override PartName="/ppt/media/image8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5A1-0FC2-41EA-96B6-BD86BA09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8298-E030-4CDB-9FCB-022B7B7D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7D5-04B5-4149-AA28-9E1413B5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D6A-6B7E-477C-913D-FB8EA37C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B6E2-0ECA-468E-9F29-045CC199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FCE3-EC2C-41CC-86E8-934CED1B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B9D8-0506-4A0C-B23C-5F5893B2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B512-3BD1-4FA7-AF2C-CC062F05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C9D1-7038-4FCE-8EDE-B2CB1520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0FF9-AC9E-4619-AE5B-C471C1DB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68F6-D824-4980-9DD1-FB0D9CEF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1A1-0C8D-419F-A536-3F258CBB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37EB-9000-468B-8F76-C9ECEA50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4EF2-33A2-4C48-9447-27677C8D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9C1A-35E6-4677-A0F4-E81E64A8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2C1F-2A12-48AD-BD71-B32825CE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D32F-FBB0-4C9B-A241-09A4A3BA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BAA-117D-4E0E-B226-F32021E8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733-4D63-4E06-8F1F-16D28261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182-E137-4AD3-80FA-0879AC92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253-8EBD-4CE4-A729-2AF31D32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977-AC9C-462D-9217-60F442D1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705E-0D9F-4042-AC17-5D26843C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274-1028-4710-B50F-D2D1CC62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9E08-EB0D-4322-AA37-A97E7DE7FC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5FCB-B682-4182-8141-67A292ADD2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4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44.wmf"/><Relationship Id="rId12" Type="http://schemas.openxmlformats.org/officeDocument/2006/relationships/image" Target="../media/image45.wmf"/><Relationship Id="rId13" Type="http://schemas.openxmlformats.org/officeDocument/2006/relationships/image" Target="../media/image46.wmf"/><Relationship Id="rId14" Type="http://schemas.openxmlformats.org/officeDocument/2006/relationships/image" Target="../media/image47.wmf"/><Relationship Id="rId1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80792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隶书"/>
                <a:ea typeface="隶书"/>
              </a:rPr>
              <a:t>26.1.2 </a:t>
            </a:r>
            <a:r>
              <a:rPr b="0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反比例函数的图象和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3897360"/>
            <a:ext cx="946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第</a:t>
            </a:r>
            <a:r>
              <a:rPr b="0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课时 反比例函数的图象和性质（</a:t>
            </a:r>
            <a:r>
              <a:rPr b="0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针对练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79640" y="5383080"/>
            <a:ext cx="72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5840" y="1519560"/>
            <a:ext cx="8858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是反比例函数的图象的一个分支，对于给出的下列说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常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是         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另一个分支在第三象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函数图象上取点              和            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当             时，           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函数图象的某一个分支上取点               和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当             时，            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中正确的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在横线上填出正确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序号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130640" y="2205000"/>
          <a:ext cx="873000" cy="4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0640" y="2205000"/>
                    <a:ext cx="8730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882960" y="2997360"/>
          <a:ext cx="1409760" cy="63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2960" y="2997360"/>
                    <a:ext cx="140976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5508720" y="3033720"/>
          <a:ext cx="1479600" cy="63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720" y="3033720"/>
                    <a:ext cx="14796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440000" y="3413160"/>
          <a:ext cx="1108080" cy="56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0000" y="3413160"/>
                    <a:ext cx="11080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260880" y="3440160"/>
          <a:ext cx="1038240" cy="56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60880" y="3440160"/>
                    <a:ext cx="10382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6048360" y="3838680"/>
          <a:ext cx="1409760" cy="63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48360" y="3838680"/>
                    <a:ext cx="14097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979640" y="4268880"/>
          <a:ext cx="1108080" cy="565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79640" y="4268880"/>
                    <a:ext cx="11080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780000" y="4268880"/>
          <a:ext cx="1035000" cy="565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80000" y="4268880"/>
                    <a:ext cx="10350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3424320" y="4673520"/>
            <a:ext cx="15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①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7"/>
          <a:stretch/>
        </p:blipFill>
        <p:spPr>
          <a:xfrm>
            <a:off x="6985080" y="1841400"/>
            <a:ext cx="2124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针对练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79640" y="5383080"/>
            <a:ext cx="72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5840" y="1467000"/>
            <a:ext cx="885816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直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+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双曲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交于Ａ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两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其横坐标分别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不等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+b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＞     的解集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11280" y="308916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508720" y="1268280"/>
          <a:ext cx="51732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1268280"/>
                    <a:ext cx="5173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248000" y="3089160"/>
            <a:ext cx="3070440" cy="312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7078680" y="2133720"/>
          <a:ext cx="517680" cy="1009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8680" y="2133720"/>
                    <a:ext cx="51768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60960" y="0"/>
            <a:ext cx="2341800" cy="58140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结梳理  内化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38320" y="2436840"/>
            <a:ext cx="609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2920" y="1773360"/>
            <a:ext cx="88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小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学生进一步理解和掌握反比例函数及其图象与性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能灵活运用函数图象和性质解决一些较综合的问题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想方法小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──深刻领会函数解析式与函数图象之间的联系，体会数形结合及转化的思想方法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55920" y="0"/>
            <a:ext cx="2552040" cy="58140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达标检测    反思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8000" y="141264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已知反比例函数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过点（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为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             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－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          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8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8000" y="3075840"/>
            <a:ext cx="882000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点            ，         ，         均在函数            的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，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小关系是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718080" y="1268280"/>
          <a:ext cx="34920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8080" y="1268280"/>
                    <a:ext cx="3492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220760" y="3152880"/>
          <a:ext cx="104760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0760" y="3152880"/>
                    <a:ext cx="10476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509920" y="3152880"/>
          <a:ext cx="94608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920" y="3152880"/>
                    <a:ext cx="9460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635280" y="3152880"/>
          <a:ext cx="882720" cy="49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3152880"/>
                    <a:ext cx="8827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084720" y="2997360"/>
          <a:ext cx="863640" cy="84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84720" y="2997360"/>
                    <a:ext cx="86364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797280" y="2133720"/>
          <a:ext cx="343080" cy="87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97280" y="2133720"/>
                    <a:ext cx="34308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6084720" y="4076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255680" y="4797360"/>
          <a:ext cx="2200320" cy="669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55680" y="4797360"/>
                    <a:ext cx="22003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5143680" y="4775040"/>
          <a:ext cx="2199960" cy="669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4775040"/>
                    <a:ext cx="21999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255680" y="5603760"/>
          <a:ext cx="2200320" cy="66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55680" y="5603760"/>
                    <a:ext cx="22003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186520" y="5603760"/>
          <a:ext cx="2193840" cy="669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86520" y="5603760"/>
                    <a:ext cx="21938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55920" y="0"/>
            <a:ext cx="2552040" cy="58140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达标检测    反思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9440" y="1393920"/>
            <a:ext cx="89996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反比例函数           图象上有两个点为（          ）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           ），且             ，则下式关系成立的是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不能确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81120" y="336960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064360" y="2241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549520" y="1157400"/>
          <a:ext cx="9493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9520" y="1157400"/>
                    <a:ext cx="9493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767640" y="1397160"/>
          <a:ext cx="809640" cy="5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7640" y="1397160"/>
                    <a:ext cx="8096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981000" y="2225520"/>
          <a:ext cx="901800" cy="5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81000" y="2225520"/>
                    <a:ext cx="9018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990880" y="2241720"/>
          <a:ext cx="1041480" cy="55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0880" y="2241720"/>
                    <a:ext cx="10414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184400" y="3116160"/>
          <a:ext cx="1110960" cy="55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4400" y="3116160"/>
                    <a:ext cx="111096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316320" y="3105000"/>
          <a:ext cx="1111320" cy="55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16320" y="3105000"/>
                    <a:ext cx="111132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5153040" y="3105000"/>
          <a:ext cx="1111320" cy="55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53040" y="3105000"/>
                    <a:ext cx="111132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142920" y="407664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反比例函数           的图象与一次函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=2x+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交点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反比例函数的解析式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585880" y="3897360"/>
          <a:ext cx="870120" cy="869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85880" y="3897360"/>
                    <a:ext cx="87012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7728120" y="5079960"/>
          <a:ext cx="768240" cy="797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28120" y="5079960"/>
                    <a:ext cx="7682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55920" y="0"/>
            <a:ext cx="2552040" cy="58140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达标检测    反思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81120" y="336960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8000" y="1265400"/>
            <a:ext cx="90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正比例函数                    与反比例函数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交于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正比例函数值大于反比例函数值时自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659640" y="3287880"/>
            <a:ext cx="2374920" cy="1977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311640" y="1339920"/>
          <a:ext cx="1733400" cy="4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11640" y="1339920"/>
                    <a:ext cx="17334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7201080" y="1104840"/>
          <a:ext cx="175392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01080" y="1104840"/>
                    <a:ext cx="17539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42920" y="3429000"/>
            <a:ext cx="8631360" cy="2620440"/>
            <a:chOff x="142920" y="3429000"/>
            <a:chExt cx="8631360" cy="2620440"/>
          </a:xfrm>
        </p:grpSpPr>
        <p:pic>
          <p:nvPicPr>
            <p:cNvPr id="324" name="1010152154319" descr=""/>
            <p:cNvPicPr/>
            <p:nvPr/>
          </p:nvPicPr>
          <p:blipFill>
            <a:blip r:embed="rId6"/>
            <a:stretch/>
          </p:blipFill>
          <p:spPr>
            <a:xfrm>
              <a:off x="1505160" y="3429000"/>
              <a:ext cx="18720" cy="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1010152154319" descr=""/>
            <p:cNvPicPr/>
            <p:nvPr/>
          </p:nvPicPr>
          <p:blipFill>
            <a:blip r:embed="rId7"/>
            <a:stretch/>
          </p:blipFill>
          <p:spPr>
            <a:xfrm>
              <a:off x="1505160" y="3692520"/>
              <a:ext cx="34920" cy="104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26" name=""/>
            <p:cNvGraphicFramePr/>
            <p:nvPr/>
          </p:nvGraphicFramePr>
          <p:xfrm>
            <a:off x="4656240" y="3692520"/>
            <a:ext cx="885600" cy="433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656240" y="3692520"/>
                      <a:ext cx="885600" cy="4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8" name=""/>
            <p:cNvGraphicFramePr/>
            <p:nvPr/>
          </p:nvGraphicFramePr>
          <p:xfrm>
            <a:off x="5792760" y="3451320"/>
            <a:ext cx="866880" cy="8478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792760" y="3451320"/>
                      <a:ext cx="866880" cy="84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30" name="" descr=""/>
            <p:cNvPicPr/>
            <p:nvPr/>
          </p:nvPicPr>
          <p:blipFill>
            <a:blip r:embed="rId12"/>
            <a:stretch/>
          </p:blipFill>
          <p:spPr>
            <a:xfrm>
              <a:off x="2133720" y="4262400"/>
              <a:ext cx="887400" cy="3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3"/>
            <a:stretch/>
          </p:blipFill>
          <p:spPr>
            <a:xfrm>
              <a:off x="3311640" y="404172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14"/>
            <a:stretch/>
          </p:blipFill>
          <p:spPr>
            <a:xfrm>
              <a:off x="2517840" y="4586400"/>
              <a:ext cx="78912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249120" y="3692520"/>
              <a:ext cx="587088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解：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将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分别代入           和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中可得：          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解方程得：          、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2920" y="5589720"/>
              <a:ext cx="863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由图象可知，正比例函数值大于反比例函数值时：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＞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987280" y="1773000"/>
            <a:ext cx="5699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上交作业：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教科书第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页第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</a:rPr>
              <a:t>5,6,7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3716280"/>
            <a:ext cx="246060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419640" y="4508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二四象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0920" y="27511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三象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187280" y="639720"/>
          <a:ext cx="7488360" cy="5897520"/>
        </p:xfrm>
        <a:graphic>
          <a:graphicData uri="http://schemas.openxmlformats.org/drawingml/2006/table">
            <a:tbl>
              <a:tblPr/>
              <a:tblGrid>
                <a:gridCol w="1284120"/>
                <a:gridCol w="3097440"/>
                <a:gridCol w="31068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函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正比例函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反比例函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解析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图象形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K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 flipH="1">
            <a:off x="3203640" y="2781360"/>
            <a:ext cx="1440" cy="19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82920" y="3716280"/>
            <a:ext cx="619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28512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3629160"/>
            <a:ext cx="50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增减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4579920"/>
            <a:ext cx="0" cy="187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2920" y="5589720"/>
            <a:ext cx="619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46292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5521320"/>
            <a:ext cx="50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增减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1197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y=kx  ( k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≠0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722920" y="1150920"/>
            <a:ext cx="2952720" cy="624240"/>
            <a:chOff x="5722920" y="1150920"/>
            <a:chExt cx="2952720" cy="624240"/>
          </a:xfrm>
        </p:grpSpPr>
        <p:sp>
          <p:nvSpPr>
            <p:cNvPr id="98" name=""/>
            <p:cNvSpPr/>
            <p:nvPr/>
          </p:nvSpPr>
          <p:spPr>
            <a:xfrm>
              <a:off x="6299280" y="12747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( k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是常数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,k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≠0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5722920" y="1150920"/>
              <a:ext cx="820800" cy="624240"/>
              <a:chOff x="5722920" y="1150920"/>
              <a:chExt cx="820800" cy="624240"/>
            </a:xfrm>
          </p:grpSpPr>
          <p:sp>
            <p:nvSpPr>
              <p:cNvPr id="100" name=""/>
              <p:cNvSpPr/>
              <p:nvPr/>
            </p:nvSpPr>
            <p:spPr>
              <a:xfrm>
                <a:off x="5722920" y="1284120"/>
                <a:ext cx="77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y 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11720" y="1376280"/>
                <a:ext cx="4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111720" y="1150920"/>
                <a:ext cx="4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154560" y="1490760"/>
                <a:ext cx="216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2986200" y="21430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78560" y="21430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双曲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3789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随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增大而增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80000" y="29354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三象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378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在每个象限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随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的增大而减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51640" y="48434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二四象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2000" y="57085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随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增大而减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3080" y="566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在每个象限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随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的增大而增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6560" y="2205000"/>
            <a:ext cx="10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498920" y="2850840"/>
            <a:ext cx="863640" cy="717480"/>
            <a:chOff x="4498920" y="2850840"/>
            <a:chExt cx="863640" cy="717480"/>
          </a:xfrm>
        </p:grpSpPr>
        <p:sp>
          <p:nvSpPr>
            <p:cNvPr id="114" name=""/>
            <p:cNvSpPr/>
            <p:nvPr/>
          </p:nvSpPr>
          <p:spPr>
            <a:xfrm>
              <a:off x="4498920" y="3223080"/>
              <a:ext cx="8636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914720" y="2850840"/>
              <a:ext cx="0" cy="7174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638600" y="2936520"/>
              <a:ext cx="550800" cy="576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498920" y="4654440"/>
            <a:ext cx="863640" cy="719280"/>
            <a:chOff x="4498920" y="4654440"/>
            <a:chExt cx="863640" cy="719280"/>
          </a:xfrm>
        </p:grpSpPr>
        <p:sp>
          <p:nvSpPr>
            <p:cNvPr id="118" name=""/>
            <p:cNvSpPr/>
            <p:nvPr/>
          </p:nvSpPr>
          <p:spPr>
            <a:xfrm>
              <a:off x="4498920" y="5027400"/>
              <a:ext cx="8636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914720" y="4654440"/>
              <a:ext cx="0" cy="719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99080" y="4798800"/>
              <a:ext cx="504720" cy="505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164360" y="2781360"/>
            <a:ext cx="1079280" cy="934560"/>
            <a:chOff x="7164360" y="2781360"/>
            <a:chExt cx="1079280" cy="934560"/>
          </a:xfrm>
        </p:grpSpPr>
        <p:sp>
          <p:nvSpPr>
            <p:cNvPr id="122" name=""/>
            <p:cNvSpPr/>
            <p:nvPr/>
          </p:nvSpPr>
          <p:spPr>
            <a:xfrm>
              <a:off x="7164360" y="3265920"/>
              <a:ext cx="10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683840" y="2781360"/>
              <a:ext cx="0" cy="93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75280" y="2873880"/>
              <a:ext cx="273960" cy="331920"/>
            </a:xfrm>
            <a:custGeom>
              <a:avLst/>
              <a:gdLst/>
              <a:ahLst/>
              <a:rect l="l" t="t" r="r" b="b"/>
              <a:pathLst>
                <a:path w="138" h="115">
                  <a:moveTo>
                    <a:pt x="0" y="0"/>
                  </a:moveTo>
                  <a:cubicBezTo>
                    <a:pt x="0" y="37"/>
                    <a:pt x="1" y="74"/>
                    <a:pt x="24" y="93"/>
                  </a:cubicBezTo>
                  <a:cubicBezTo>
                    <a:pt x="47" y="112"/>
                    <a:pt x="92" y="113"/>
                    <a:pt x="138" y="1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24920" y="3328200"/>
              <a:ext cx="283680" cy="284400"/>
            </a:xfrm>
            <a:custGeom>
              <a:avLst/>
              <a:gdLst/>
              <a:ahLst/>
              <a:rect l="l" t="t" r="r" b="b"/>
              <a:pathLst>
                <a:path w="143" h="138">
                  <a:moveTo>
                    <a:pt x="0" y="7"/>
                  </a:moveTo>
                  <a:cubicBezTo>
                    <a:pt x="1" y="3"/>
                    <a:pt x="2" y="0"/>
                    <a:pt x="20" y="3"/>
                  </a:cubicBezTo>
                  <a:cubicBezTo>
                    <a:pt x="38" y="6"/>
                    <a:pt x="89" y="4"/>
                    <a:pt x="110" y="27"/>
                  </a:cubicBezTo>
                  <a:cubicBezTo>
                    <a:pt x="131" y="50"/>
                    <a:pt x="137" y="94"/>
                    <a:pt x="143" y="13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236000" y="4581360"/>
            <a:ext cx="1150560" cy="1008000"/>
            <a:chOff x="7236000" y="4581360"/>
            <a:chExt cx="1150560" cy="1008000"/>
          </a:xfrm>
        </p:grpSpPr>
        <p:sp>
          <p:nvSpPr>
            <p:cNvPr id="127" name=""/>
            <p:cNvSpPr/>
            <p:nvPr/>
          </p:nvSpPr>
          <p:spPr>
            <a:xfrm>
              <a:off x="7236000" y="5104080"/>
              <a:ext cx="115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7790040" y="4581360"/>
              <a:ext cx="0" cy="10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51240" y="5153040"/>
              <a:ext cx="304560" cy="353520"/>
            </a:xfrm>
            <a:custGeom>
              <a:avLst/>
              <a:gdLst/>
              <a:ahLst/>
              <a:rect l="l" t="t" r="r" b="b"/>
              <a:pathLst>
                <a:path w="117" h="181">
                  <a:moveTo>
                    <a:pt x="117" y="0"/>
                  </a:moveTo>
                  <a:cubicBezTo>
                    <a:pt x="81" y="8"/>
                    <a:pt x="46" y="16"/>
                    <a:pt x="27" y="46"/>
                  </a:cubicBezTo>
                  <a:cubicBezTo>
                    <a:pt x="8" y="76"/>
                    <a:pt x="4" y="159"/>
                    <a:pt x="0" y="18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19960" y="4701240"/>
              <a:ext cx="304560" cy="324720"/>
            </a:xfrm>
            <a:custGeom>
              <a:avLst/>
              <a:gdLst/>
              <a:ahLst/>
              <a:rect l="l" t="t" r="r" b="b"/>
              <a:pathLst>
                <a:path w="144" h="146">
                  <a:moveTo>
                    <a:pt x="140" y="0"/>
                  </a:moveTo>
                  <a:lnTo>
                    <a:pt x="144" y="20"/>
                  </a:lnTo>
                  <a:cubicBezTo>
                    <a:pt x="141" y="40"/>
                    <a:pt x="144" y="98"/>
                    <a:pt x="120" y="119"/>
                  </a:cubicBezTo>
                  <a:cubicBezTo>
                    <a:pt x="96" y="140"/>
                    <a:pt x="48" y="143"/>
                    <a:pt x="0" y="1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0" y="549360"/>
            <a:ext cx="1042920" cy="2226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填表分析正比例函数和反比例函数的区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104400" y="5589720"/>
            <a:ext cx="2165400" cy="1224000"/>
          </a:xfrm>
          <a:prstGeom prst="cloudCallout">
            <a:avLst>
              <a:gd name="adj1" fmla="val -67050"/>
              <a:gd name="adj2" fmla="val 83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对比的方法去记忆效果如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440" y="-27000"/>
            <a:ext cx="2446920" cy="58140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创设情景   明确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2133720"/>
            <a:ext cx="8686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使学生进一步理解和掌握反比例函数及其图象与性质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能灵活运用函数图象和性质解决一些较综合的问题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深刻领会函数解析式与函数图象之间的联系，体会数形结合及转化的思想方法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640" y="692280"/>
            <a:ext cx="30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学习目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395280" y="517680"/>
            <a:ext cx="8496360" cy="2010600"/>
            <a:chOff x="395280" y="517680"/>
            <a:chExt cx="8496360" cy="2010600"/>
          </a:xfrm>
        </p:grpSpPr>
        <p:sp>
          <p:nvSpPr>
            <p:cNvPr id="137" name=""/>
            <p:cNvSpPr/>
            <p:nvPr/>
          </p:nvSpPr>
          <p:spPr>
            <a:xfrm>
              <a:off x="395280" y="517680"/>
              <a:ext cx="84963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活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: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已知反比例函数的图象经过点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(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这个函数的图象分布在哪些象限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?y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随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增大如何变化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点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(3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)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(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是否在这个函数的图象上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8" name=""/>
            <p:cNvGraphicFramePr/>
            <p:nvPr/>
          </p:nvGraphicFramePr>
          <p:xfrm>
            <a:off x="3346560" y="1652400"/>
            <a:ext cx="1728720" cy="87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6560" y="1652400"/>
                      <a:ext cx="1728720" cy="87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0" name=""/>
          <p:cNvGrpSpPr/>
          <p:nvPr/>
        </p:nvGrpSpPr>
        <p:grpSpPr>
          <a:xfrm>
            <a:off x="1541520" y="2475000"/>
            <a:ext cx="4449960" cy="954000"/>
            <a:chOff x="1541520" y="2475000"/>
            <a:chExt cx="4449960" cy="954000"/>
          </a:xfrm>
        </p:grpSpPr>
        <p:sp>
          <p:nvSpPr>
            <p:cNvPr id="141" name=""/>
            <p:cNvSpPr/>
            <p:nvPr/>
          </p:nvSpPr>
          <p:spPr>
            <a:xfrm>
              <a:off x="1541520" y="2764080"/>
              <a:ext cx="383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解：（１）设这个反比例函数为　　　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2" name=""/>
            <p:cNvGraphicFramePr/>
            <p:nvPr/>
          </p:nvGraphicFramePr>
          <p:xfrm>
            <a:off x="5037120" y="2475000"/>
            <a:ext cx="954360" cy="954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37120" y="2475000"/>
                      <a:ext cx="954360" cy="95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4" name=""/>
          <p:cNvGraphicFramePr/>
          <p:nvPr/>
        </p:nvGraphicFramePr>
        <p:xfrm>
          <a:off x="792000" y="3789360"/>
          <a:ext cx="1224000" cy="92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000" y="3789360"/>
                    <a:ext cx="122400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709720" y="404964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解得：   ｋ＝１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2000" y="4716360"/>
            <a:ext cx="43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∴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这个反比例函数的表达式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900680" y="4506840"/>
          <a:ext cx="1076400" cy="95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00680" y="4506840"/>
                    <a:ext cx="10764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523160" y="5300640"/>
            <a:ext cx="10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∵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ｋ＞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32440" y="5697360"/>
            <a:ext cx="33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∴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这个函数的图象在第一、第三象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在每个象限内，ｙ随ｘ的增大而减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18800" y="3332160"/>
            <a:ext cx="27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∵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图象过点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7080" y="2475000"/>
            <a:ext cx="4066920" cy="1871640"/>
          </a:xfrm>
          <a:prstGeom prst="cloudCallout">
            <a:avLst>
              <a:gd name="adj1" fmla="val -75138"/>
              <a:gd name="adj2" fmla="val 1915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解题思路：把握题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找关键字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连接相关知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组织解题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2600"/>
            <a:ext cx="3359160" cy="52056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作探究   达成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421080" y="19080"/>
            <a:ext cx="568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探究点一：用反比例函数解析式判定图象及性质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56" name=""/>
          <p:cNvSpPr/>
          <p:nvPr/>
        </p:nvSpPr>
        <p:spPr>
          <a:xfrm>
            <a:off x="6310440" y="3862440"/>
            <a:ext cx="1942920" cy="969840"/>
          </a:xfrm>
          <a:prstGeom prst="cloudCallout">
            <a:avLst>
              <a:gd name="adj1" fmla="val -50814"/>
              <a:gd name="adj2" fmla="val 99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需要几个坐标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480" y="12600"/>
            <a:ext cx="3359160" cy="52056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作探究   达成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680" y="941040"/>
            <a:ext cx="887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小组讨论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反比例函数图象上的一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确定其图象的的性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及所给的点是否在该图象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9280" y="2597400"/>
            <a:ext cx="8879040" cy="3141000"/>
            <a:chOff x="179280" y="2597400"/>
            <a:chExt cx="8879040" cy="3141000"/>
          </a:xfrm>
        </p:grpSpPr>
        <p:sp>
          <p:nvSpPr>
            <p:cNvPr id="162" name=""/>
            <p:cNvSpPr/>
            <p:nvPr/>
          </p:nvSpPr>
          <p:spPr>
            <a:xfrm>
              <a:off x="179280" y="2597400"/>
              <a:ext cx="8879040" cy="31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【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反思小结</a:t>
              </a:r>
              <a:r>
                <a:rPr b="0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】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已知反比例函数图象上的一点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可以设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比例函数的解析式为      （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常数，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≠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０）．然后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接将这个点的坐标代入反比例函数的解析式，求得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值，据此作出判断即可．要判断所给的另外的点是否在该图象上，可以将其坐标代入求得的反比例函数解析式中，若满足左边＝右边，则在，若不满足左边＝右边，则不在．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3" name=""/>
            <p:cNvGraphicFramePr/>
            <p:nvPr/>
          </p:nvGraphicFramePr>
          <p:xfrm>
            <a:off x="3736800" y="2913120"/>
            <a:ext cx="835200" cy="83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6800" y="2913120"/>
                      <a:ext cx="835200" cy="83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484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针对练一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0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59228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反比例函数的图象经过点（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则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的解析式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若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(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一次函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=2x+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上，它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对称点在反比例函数              的图象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则反比例函数的解析式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737320" y="4216320"/>
          <a:ext cx="117468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7320" y="4216320"/>
                    <a:ext cx="117468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527280" y="1941480"/>
          <a:ext cx="1229040" cy="9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7280" y="1941480"/>
                    <a:ext cx="122904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262480" y="4822920"/>
          <a:ext cx="947880" cy="98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2480" y="4822920"/>
                    <a:ext cx="94788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0480" y="12600"/>
            <a:ext cx="3359160" cy="52056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作探究   达成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4000" y="692280"/>
            <a:ext cx="6534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探究点二：用反比例函数的图象确定函数的性质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80" name=""/>
          <p:cNvSpPr/>
          <p:nvPr/>
        </p:nvSpPr>
        <p:spPr>
          <a:xfrm>
            <a:off x="34920" y="1257480"/>
            <a:ext cx="87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活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如图是反比例函数              的图象一支，根据图象回答下列问题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图象的另一支在哪个象限？常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这个函数图象的某一支上任取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如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&gt;a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 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怎样的大小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140360" y="1089000"/>
          <a:ext cx="14396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089000"/>
                    <a:ext cx="143964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rcRect l="0" t="0" r="69884" b="9556"/>
          <a:stretch/>
        </p:blipFill>
        <p:spPr>
          <a:xfrm>
            <a:off x="6664320" y="3968640"/>
            <a:ext cx="2336760" cy="2406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84360" y="4159080"/>
            <a:ext cx="60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解：（１）反比例函数图象的分布只有两种可能，分布在第一、第三象限，或者分布在第二、第四象限。这个函数的图象的一支在第一象限，则另一支必在第三象限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9280" y="5481720"/>
            <a:ext cx="42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函数的图象在第一、第三象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47960" y="5985000"/>
            <a:ext cx="15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　ｍ－５＞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1720" y="598500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解得  ｍ＞５．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480" y="12600"/>
            <a:ext cx="3359160" cy="52056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作探究   达成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4000" y="692280"/>
            <a:ext cx="6534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探究点二：用反比例函数的图象确定函数的性质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90" name=""/>
          <p:cNvSpPr/>
          <p:nvPr/>
        </p:nvSpPr>
        <p:spPr>
          <a:xfrm>
            <a:off x="34920" y="1257480"/>
            <a:ext cx="87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活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如图是反比例函数              的图象一支，根据图象回答下列问题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图象的另一支在哪个象限？常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这个函数图象的某一支上任取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如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&gt;a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那 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怎样的大小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140360" y="1089000"/>
          <a:ext cx="14396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089000"/>
                    <a:ext cx="143964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" descr=""/>
          <p:cNvPicPr/>
          <p:nvPr/>
        </p:nvPicPr>
        <p:blipFill>
          <a:blip r:embed="rId3"/>
          <a:srcRect l="0" t="0" r="69884" b="9556"/>
          <a:stretch/>
        </p:blipFill>
        <p:spPr>
          <a:xfrm>
            <a:off x="6664320" y="3968640"/>
            <a:ext cx="2336760" cy="2406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150920" y="4508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２）∵ｍ－５＞０，在这个函数图象的任一支上，ｙ随ｘ的增大而减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13560" y="5445000"/>
            <a:ext cx="24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当ａ＞ａ′时，ｂ＜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′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0480" y="12600"/>
            <a:ext cx="3359160" cy="520560"/>
          </a:xfrm>
          <a:prstGeom prst="rect">
            <a:avLst/>
          </a:prstGeom>
          <a:solidFill>
            <a:srgbClr val="ffff00"/>
          </a:solidFill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作探究   达成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469160"/>
            <a:ext cx="907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组讨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：根据反比例函数的部分图象，如何确定其完整图象的位置以及比例系数的取值范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3492360"/>
            <a:ext cx="887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反思小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由于双曲线的两个分支在两个不同的象限内，因此函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增减性就不能连续的看，一定要强调“在每一象限内”，否则，笼统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增大而增大，从而出现错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2:25:12Z</dcterms:created>
  <dc:creator>thinpad</dc:creator>
  <dc:description/>
  <cp:keywords/>
  <dc:language>en-US</dc:language>
  <cp:lastModifiedBy>微软用户</cp:lastModifiedBy>
  <dcterms:modified xsi:type="dcterms:W3CDTF">2015-12-11T13:53:04Z</dcterms:modified>
  <cp:revision>43</cp:revision>
  <dc:subject/>
  <dc:title>26.1.2 反比例函数的图象和性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